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6ED0-243A-44B0-AE8E-9055EB7CC847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8921-2DD0-48C9-8EED-89C008C868E2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C607-FEE2-4F76-92A2-7227C2C8D843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6BC2-2DD1-4CFD-A604-229A75C391B4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45C7-FBD6-4DE2-8632-017CDCC333F2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0CF-EEAF-42E4-A1E9-B5D292A818DE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B7B7-7E16-40D6-A817-2C578A969C96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4141-44F0-42D7-85ED-4EFA4224C81F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8CBD-D65A-4074-8D88-166A2E4F824E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9B6A-8837-46FE-8095-7868577CDEBE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974F-44C8-4239-8386-7CF7E8C6D6B8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BC04-A039-4BF1-A339-F9F872D9B302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1228-DD8E-4646-B6C3-FC3422544F98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A4D-C471-4A5E-9879-74EC1435D7D5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D67D-69B4-4F00-A99D-48A4B4D878C9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2617-80BB-4F64-9433-7C796F928C94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DE5F-769E-43A7-B6B6-438BF23DBDEF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3E56-84FE-4F69-B99B-A5E597E66C61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997F-A21F-46C9-86D3-0AB013F09EA4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7288-1670-46D7-979A-19CCF6ACE5E5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3861-2B67-4F81-8877-0484844E9F7B}" type="slidenum">
              <a:rPr b="0" i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AE8-AE46-4FF7-A491-DB054686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E88-6071-4EC9-B395-27009D85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672-BC91-477D-8368-724F5B12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45A-1DA7-4C13-94D5-7960A6B9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26E-E83B-4BE7-9DD7-1B815ED9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5B8-CC40-4B67-B658-E4487823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296-88B7-418E-B121-358F32FA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115-47C7-445E-9906-01175969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CA6-FAD6-4000-A23E-469E54BE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763-B899-4559-9310-8613316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A6C-8963-4FC6-BD40-4337D4DD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42A-6D0E-49B8-9538-28FC8FC8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B012-74B5-4D18-A2AD-E4A16EA18D0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941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: Devin Ouell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2916360" y="260280"/>
            <a:ext cx="36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ainism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25333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dh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amb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vetamb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643280" y="1557360"/>
            <a:ext cx="2665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y: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ary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adhyay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ni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laka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66"/>
            </a:gs>
            <a:gs pos="100000">
              <a:srgbClr val="ff33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havir Janma Kalyanak: The birth day of Mahav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shamavaani: The day of forg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yushan: The day of fa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00cc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t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var Man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symb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ring offerings to the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irthank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ly focused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mples and Jain societies in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a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im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rivat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as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p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804000" y="836640"/>
            <a:ext cx="1362240" cy="19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1143000" y="4543560"/>
            <a:ext cx="1905120" cy="2314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4572000" y="4365720"/>
            <a:ext cx="1838160" cy="1971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953400" y="5214960"/>
            <a:ext cx="21906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117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in Sanskr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written autobiography in Hin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ttvartha Su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attvarthau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187280" y="1557360"/>
            <a:ext cx="6480360" cy="367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79280" y="907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979640" y="2781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527 B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788000" y="31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2-3 Century C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596360" y="537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1628640"/>
            <a:ext cx="143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540 B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ttp://video.google.com/videosearch?q=videa&amp;sourceid=ie7&amp;rls=com.microsoft:en-US&amp;oe=utf8&amp;rlz=&amp;um=1&amp;ie=UTF-8&amp;sa=N&amp;hl=en&amp;tab=wv#q=jainism&amp;hl=en&amp;emb=0&amp;start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in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ins believe that the universe had no beginning and that it has no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that every individual has a so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that every individual is responsible for their 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in non-violence in every form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979640" y="0"/>
            <a:ext cx="489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42920" y="-27000"/>
            <a:ext cx="92869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Breuilly, Elizabeth, comp. </a:t>
            </a:r>
            <a:r>
              <a:rPr b="0" i="1" lang="en-CA" sz="2400" spc="-1" strike="noStrike">
                <a:solidFill>
                  <a:srgbClr val="009999"/>
                </a:solidFill>
                <a:latin typeface="Arial"/>
              </a:rPr>
              <a:t>Religions of the world</a:t>
            </a: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. New york: Transedition, 1997. 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"Jainism -." </a:t>
            </a:r>
            <a:r>
              <a:rPr b="0" i="1" lang="en-CA" sz="2400" spc="-1" strike="noStrike">
                <a:solidFill>
                  <a:srgbClr val="009999"/>
                </a:solidFill>
                <a:latin typeface="Arial"/>
              </a:rPr>
              <a:t>Wikipedia, the free encyclopedia</a:t>
            </a: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. Web. 08 Oct. 2009. &lt;http://en.wikipedia.org/wiki/Jainism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"JAINISM." </a:t>
            </a:r>
            <a:r>
              <a:rPr b="0" i="1" lang="en-CA" sz="2400" spc="-1" strike="noStrike">
                <a:solidFill>
                  <a:srgbClr val="009999"/>
                </a:solidFill>
                <a:latin typeface="Arial"/>
              </a:rPr>
              <a:t>ReligiousTolerance.org by the Ontario Consultants on Religious Tolerance</a:t>
            </a:r>
            <a:r>
              <a:rPr b="0" lang="en-CA" sz="2400" spc="-1" strike="noStrike">
                <a:solidFill>
                  <a:srgbClr val="009999"/>
                </a:solidFill>
                <a:latin typeface="Arial"/>
              </a:rPr>
              <a:t>. Web. 08 Oct. 2009. &lt;http://www.religioustolerance.org/jainism.htm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Pic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religionencyclopedia.info/wp-content/uploads/2008/01/jainism-creation-and-cosmology-thumb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ttp://www.indianetzone.com/2/images/jain-miniature_68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e9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in refers to a person who has conquered their inner turmoil. This includes inner hate, greed and selfish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te amount of peoples souls trapped in the materi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ma: The accumulation of spiritual wrongdo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deeds abolish ka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4762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verview continue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ins believe that every single person has a soul and that every individual has the ability to become div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ains believe in ka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that once a person is rid of their karma they become hol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s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ks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imsa: The principle where there is no violence in any part of a person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ya: The principle where only the truth is sp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eya: The principle where you do not st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hma-charya: The principle where a person is loyal to their sp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igraha:The principle of being detached from material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inism there is no supreme de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 in rebirth and that based on your previous karma you will be reborn into a different layers to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 of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Ab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r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a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4272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Contrib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rthanak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habha D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inism was spread by Vardhamana Mahav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the son of Siddhart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6afe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havi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welve years of suffering he achieved keva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wards he started teaching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 Brahmins conve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9:23:14Z</dcterms:created>
  <dc:creator>Profile</dc:creator>
  <dc:description/>
  <dc:language>en-US</dc:language>
  <cp:lastModifiedBy>ripkensa</cp:lastModifiedBy>
  <dcterms:modified xsi:type="dcterms:W3CDTF">2009-10-18T18:23:13Z</dcterms:modified>
  <cp:revision>25</cp:revision>
  <dc:subject/>
  <dc:title>By: Devin Ouellette</dc:title>
</cp:coreProperties>
</file>